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e from Chuck.   Please retain and maintain this page as you remix and republish these materials.  Please add any of your own improvements or contributions.   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1323792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09840" y="5390280"/>
            <a:ext cx="1323792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0984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9296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985720" y="259056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461600" y="259056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09840" y="539028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5985720" y="539028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10461600" y="539028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09840" y="2590560"/>
            <a:ext cx="1323792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4960" indent="0" algn="ctr">
              <a:spcBef>
                <a:spcPts val="23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1323792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09840" y="677520"/>
            <a:ext cx="13237920" cy="85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4960"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0984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09840" y="2590560"/>
            <a:ext cx="1323792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4960" indent="0" algn="ctr">
              <a:spcBef>
                <a:spcPts val="23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9296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09840" y="5390280"/>
            <a:ext cx="1323792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1323792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09840" y="5390280"/>
            <a:ext cx="1323792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0984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9296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5720" y="259056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461600" y="259056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09840" y="539028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5985720" y="539028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10461600" y="539028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1323792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09840" y="677520"/>
            <a:ext cx="13237920" cy="85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4960"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0984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9296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09840" y="5390280"/>
            <a:ext cx="1323792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4160" y="1538280"/>
            <a:ext cx="13934880" cy="3084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4160" y="4710240"/>
            <a:ext cx="13934880" cy="10555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t">
            <a:normAutofit fontScale="48000"/>
          </a:bodyPr>
          <a:p>
            <a:pPr marL="1638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163800" indent="-16380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63800" indent="-16380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3800" indent="-16380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4" marL="163800" indent="-16380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5" marL="163800" indent="-16380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6" marL="163800" indent="-16380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16257600" cy="64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-6480" y="8491680"/>
            <a:ext cx="16257600" cy="64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-33480"/>
            <a:ext cx="16257600" cy="64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-6480" y="8534520"/>
            <a:ext cx="16257600" cy="64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" name="Picture 7" descr="Top_Bar_Background.png"/>
          <p:cNvPicPr/>
          <p:nvPr/>
        </p:nvPicPr>
        <p:blipFill>
          <a:blip r:embed="rId2"/>
          <a:stretch/>
        </p:blipFill>
        <p:spPr>
          <a:xfrm>
            <a:off x="3240" y="0"/>
            <a:ext cx="16257600" cy="914400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61920" y="68400"/>
            <a:ext cx="53989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.R.U.D. 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TextBox 9"/>
          <p:cNvSpPr/>
          <p:nvPr/>
        </p:nvSpPr>
        <p:spPr>
          <a:xfrm>
            <a:off x="12168360" y="76320"/>
            <a:ext cx="36925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eorgia"/>
                <a:ea typeface="Georgia"/>
              </a:rPr>
              <a:t>WEB APPLICATIONS</a:t>
            </a:r>
            <a:endParaRPr b="0" lang="en-US" sz="17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eorgia"/>
                <a:ea typeface="Georgia"/>
              </a:rPr>
              <a:t>FOR EVERYBODY</a:t>
            </a:r>
            <a:endParaRPr b="0" lang="en-US" sz="1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09840" y="2590560"/>
            <a:ext cx="1323792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 fontScale="90000"/>
          </a:bodyPr>
          <a:p>
            <a:pPr marL="947160" indent="-70884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1" marL="1348560" indent="-70848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2" marL="1747080" indent="-70848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3" marL="2148480" indent="-70848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4" marL="2547360" indent="-70884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5" marL="2547360" indent="-70884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6" marL="2547360" indent="-70884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0"/>
            <a:ext cx="16257600" cy="64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-6480" y="8491680"/>
            <a:ext cx="16257600" cy="64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33480"/>
            <a:ext cx="16257600" cy="64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-6480" y="8534520"/>
            <a:ext cx="16257600" cy="64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1" name="Picture 7" descr="Top_Bar_Background.png"/>
          <p:cNvPicPr/>
          <p:nvPr/>
        </p:nvPicPr>
        <p:blipFill>
          <a:blip r:embed="rId2"/>
          <a:stretch/>
        </p:blipFill>
        <p:spPr>
          <a:xfrm>
            <a:off x="3240" y="0"/>
            <a:ext cx="16257600" cy="9144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61920" y="68400"/>
            <a:ext cx="53989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.R.U.D. 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12168360" y="76320"/>
            <a:ext cx="36925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eorgia"/>
                <a:ea typeface="Georgia"/>
              </a:rPr>
              <a:t>WEB APPLICATIONS</a:t>
            </a:r>
            <a:endParaRPr b="0" lang="en-US" sz="17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eorgia"/>
                <a:ea typeface="Georgia"/>
              </a:rPr>
              <a:t>FOR EVERYBODY</a:t>
            </a:r>
            <a:endParaRPr b="0" lang="en-US" sz="1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160" y="1538280"/>
            <a:ext cx="13934880" cy="3084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cc66"/>
                </a:solidFill>
                <a:latin typeface="Gill Sans"/>
              </a:rPr>
              <a:t>C.R.U.D.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4160" y="4710240"/>
            <a:ext cx="13934880" cy="15523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t">
            <a:normAutofit fontScale="9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Charles Severance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www.wa4e.com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3953960" y="7551720"/>
            <a:ext cx="1773360" cy="6015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4164840" y="7467480"/>
            <a:ext cx="81518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"/>
              </a:rPr>
              <a:t>http://www.wa4e.com/code/crud.zi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0" descr=""/>
          <p:cNvPicPr/>
          <p:nvPr/>
        </p:nvPicPr>
        <p:blipFill>
          <a:blip r:embed="rId1"/>
          <a:srcRect l="0" t="0" r="0" b="46826"/>
          <a:stretch/>
        </p:blipFill>
        <p:spPr>
          <a:xfrm>
            <a:off x="755640" y="700200"/>
            <a:ext cx="7923240" cy="316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"/>
          <p:cNvPicPr/>
          <p:nvPr/>
        </p:nvPicPr>
        <p:blipFill>
          <a:blip r:embed="rId2"/>
          <a:srcRect l="0" t="0" r="0" b="35396"/>
          <a:stretch/>
        </p:blipFill>
        <p:spPr>
          <a:xfrm>
            <a:off x="8253360" y="372960"/>
            <a:ext cx="8023320" cy="3894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"/>
          <p:cNvPicPr/>
          <p:nvPr/>
        </p:nvPicPr>
        <p:blipFill>
          <a:blip r:embed="rId3"/>
          <a:stretch/>
        </p:blipFill>
        <p:spPr>
          <a:xfrm>
            <a:off x="9069480" y="3863880"/>
            <a:ext cx="6643440" cy="49896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"/>
          <p:cNvSpPr/>
          <p:nvPr/>
        </p:nvSpPr>
        <p:spPr>
          <a:xfrm>
            <a:off x="204840" y="3048120"/>
            <a:ext cx="1117440" cy="569880"/>
          </a:xfrm>
          <a:prstGeom prst="rightArrow">
            <a:avLst>
              <a:gd name="adj1" fmla="val 32000"/>
              <a:gd name="adj2" fmla="val 9778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682920" y="4422240"/>
            <a:ext cx="727020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b2c5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495d"/>
                </a:solidFill>
                <a:latin typeface="Courier-Bold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dd495d"/>
                </a:solidFill>
                <a:latin typeface="Courier-Bold"/>
              </a:rPr>
              <a:t>isset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_POST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1800" spc="-1" strike="noStrike">
                <a:solidFill>
                  <a:srgbClr val="18b9b7"/>
                </a:solidFill>
                <a:latin typeface="Courier New"/>
              </a:rPr>
              <a:t>'name'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&amp;&amp;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dd495d"/>
                </a:solidFill>
                <a:latin typeface="Courier-Bold"/>
              </a:rPr>
              <a:t>isset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_POST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1800" spc="-1" strike="noStrike">
                <a:solidFill>
                  <a:srgbClr val="18b9b7"/>
                </a:solidFill>
                <a:latin typeface="Courier New"/>
              </a:rPr>
              <a:t>'email'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])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      </a:t>
            </a:r>
            <a:r>
              <a:rPr b="0" lang="de-DE" sz="1800" spc="-1" strike="noStrike">
                <a:solidFill>
                  <a:srgbClr val="c8c473"/>
                </a:solidFill>
                <a:latin typeface="Courier New"/>
              </a:rPr>
              <a:t>&amp;&amp;</a:t>
            </a: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dd495d"/>
                </a:solidFill>
                <a:latin typeface="Courier-Bold"/>
              </a:rPr>
              <a:t>isset</a:t>
            </a:r>
            <a:r>
              <a:rPr b="0" lang="de-DE" sz="1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$_POST</a:t>
            </a:r>
            <a:r>
              <a:rPr b="0" lang="de-DE" sz="1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de-DE" sz="1800" spc="-1" strike="noStrike">
                <a:solidFill>
                  <a:srgbClr val="18b9b7"/>
                </a:solidFill>
                <a:latin typeface="Courier New"/>
              </a:rPr>
              <a:t>'password'</a:t>
            </a:r>
            <a:r>
              <a:rPr b="0" lang="de-DE" sz="1800" spc="-1" strike="noStrike">
                <a:solidFill>
                  <a:srgbClr val="c8c473"/>
                </a:solidFill>
                <a:latin typeface="Courier New"/>
              </a:rPr>
              <a:t>]))</a:t>
            </a: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1800" spc="-1" strike="noStrike">
                <a:solidFill>
                  <a:srgbClr val="9f47a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$sql </a:t>
            </a:r>
            <a:r>
              <a:rPr b="0" lang="de-DE" sz="18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1800" spc="-1" strike="noStrike">
                <a:solidFill>
                  <a:srgbClr val="18b9b7"/>
                </a:solidFill>
                <a:latin typeface="Courier New"/>
              </a:rPr>
              <a:t>"INSERT INTO users (name, email, password)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8b9b7"/>
                </a:solidFill>
                <a:latin typeface="Courier New"/>
              </a:rPr>
              <a:t>               </a:t>
            </a:r>
            <a:r>
              <a:rPr b="0" lang="pl-PL" sz="1800" spc="-1" strike="noStrike">
                <a:solidFill>
                  <a:srgbClr val="18b9b7"/>
                </a:solidFill>
                <a:latin typeface="Courier New"/>
              </a:rPr>
              <a:t>VALUES (:name, :email, :password)"</a:t>
            </a:r>
            <a:r>
              <a:rPr b="0" lang="pl-PL" sz="1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$stmt </a:t>
            </a:r>
            <a:r>
              <a:rPr b="0" lang="pl-PL" sz="18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 $pdo</a:t>
            </a:r>
            <a:r>
              <a:rPr b="0" lang="pl-PL" sz="1800" spc="-1" strike="noStrike">
                <a:solidFill>
                  <a:srgbClr val="c8c473"/>
                </a:solidFill>
                <a:latin typeface="Courier New"/>
              </a:rPr>
              <a:t>-&gt;</a:t>
            </a:r>
            <a:r>
              <a:rPr b="1" lang="pl-PL" sz="1800" spc="-1" strike="noStrike">
                <a:solidFill>
                  <a:srgbClr val="dd495d"/>
                </a:solidFill>
                <a:latin typeface="Courier-Bold"/>
              </a:rPr>
              <a:t>prepare</a:t>
            </a:r>
            <a:r>
              <a:rPr b="0" lang="pl-PL" sz="1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$sql</a:t>
            </a:r>
            <a:r>
              <a:rPr b="0" lang="pl-PL" sz="18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pl-PL" sz="1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$stmt</a:t>
            </a:r>
            <a:r>
              <a:rPr b="0" lang="pl-PL" sz="1800" spc="-1" strike="noStrike">
                <a:solidFill>
                  <a:srgbClr val="c8c473"/>
                </a:solidFill>
                <a:latin typeface="Courier New"/>
              </a:rPr>
              <a:t>-&gt;</a:t>
            </a:r>
            <a:r>
              <a:rPr b="1" lang="pl-PL" sz="1800" spc="-1" strike="noStrike">
                <a:solidFill>
                  <a:srgbClr val="dd495d"/>
                </a:solidFill>
                <a:latin typeface="Courier-Bold"/>
              </a:rPr>
              <a:t>execute</a:t>
            </a:r>
            <a:r>
              <a:rPr b="0" lang="pl-PL" sz="1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1" lang="pl-PL" sz="1800" spc="-1" strike="noStrike">
                <a:solidFill>
                  <a:srgbClr val="dd495d"/>
                </a:solidFill>
                <a:latin typeface="Courier-Bold"/>
              </a:rPr>
              <a:t>array</a:t>
            </a:r>
            <a:r>
              <a:rPr b="0" lang="pl-PL" sz="1800" spc="-1" strike="noStrike">
                <a:solidFill>
                  <a:srgbClr val="c8c473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0" lang="tr-TR" sz="1800" spc="-1" strike="noStrike">
                <a:solidFill>
                  <a:srgbClr val="18b9b7"/>
                </a:solidFill>
                <a:latin typeface="Courier New"/>
              </a:rPr>
              <a:t>':name'</a:t>
            </a: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r-TR" sz="1800" spc="-1" strike="noStrike">
                <a:solidFill>
                  <a:srgbClr val="c8c473"/>
                </a:solidFill>
                <a:latin typeface="Courier New"/>
              </a:rPr>
              <a:t>=&gt;</a:t>
            </a: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 $_POST</a:t>
            </a:r>
            <a:r>
              <a:rPr b="0" lang="tr-TR" sz="1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tr-TR" sz="1800" spc="-1" strike="noStrike">
                <a:solidFill>
                  <a:srgbClr val="18b9b7"/>
                </a:solidFill>
                <a:latin typeface="Courier New"/>
              </a:rPr>
              <a:t>'name'</a:t>
            </a:r>
            <a:r>
              <a:rPr b="0" lang="tr-TR" sz="1800" spc="-1" strike="noStrike">
                <a:solidFill>
                  <a:srgbClr val="c8c473"/>
                </a:solidFill>
                <a:latin typeface="Courier New"/>
              </a:rPr>
              <a:t>],</a:t>
            </a: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       </a:t>
            </a:r>
            <a:r>
              <a:rPr b="0" lang="tr-TR" sz="1800" spc="-1" strike="noStrike">
                <a:solidFill>
                  <a:srgbClr val="18b9b7"/>
                </a:solidFill>
                <a:latin typeface="Courier New"/>
              </a:rPr>
              <a:t>':email'</a:t>
            </a: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r-TR" sz="1800" spc="-1" strike="noStrike">
                <a:solidFill>
                  <a:srgbClr val="c8c473"/>
                </a:solidFill>
                <a:latin typeface="Courier New"/>
              </a:rPr>
              <a:t>=&gt;</a:t>
            </a: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 $_POST</a:t>
            </a:r>
            <a:r>
              <a:rPr b="0" lang="tr-TR" sz="1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tr-TR" sz="1800" spc="-1" strike="noStrike">
                <a:solidFill>
                  <a:srgbClr val="18b9b7"/>
                </a:solidFill>
                <a:latin typeface="Courier New"/>
              </a:rPr>
              <a:t>'email'</a:t>
            </a:r>
            <a:r>
              <a:rPr b="0" lang="tr-TR" sz="1800" spc="-1" strike="noStrike">
                <a:solidFill>
                  <a:srgbClr val="c8c473"/>
                </a:solidFill>
                <a:latin typeface="Courier New"/>
              </a:rPr>
              <a:t>],</a:t>
            </a: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       </a:t>
            </a:r>
            <a:r>
              <a:rPr b="0" lang="de-DE" sz="1800" spc="-1" strike="noStrike">
                <a:solidFill>
                  <a:srgbClr val="18b9b7"/>
                </a:solidFill>
                <a:latin typeface="Courier New"/>
              </a:rPr>
              <a:t>':password'</a:t>
            </a: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1800" spc="-1" strike="noStrike">
                <a:solidFill>
                  <a:srgbClr val="c8c473"/>
                </a:solidFill>
                <a:latin typeface="Courier New"/>
              </a:rPr>
              <a:t>=&gt;</a:t>
            </a: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 $_POST</a:t>
            </a:r>
            <a:r>
              <a:rPr b="0" lang="de-DE" sz="1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de-DE" sz="1800" spc="-1" strike="noStrike">
                <a:solidFill>
                  <a:srgbClr val="18b9b7"/>
                </a:solidFill>
                <a:latin typeface="Courier New"/>
              </a:rPr>
              <a:t>'password'</a:t>
            </a:r>
            <a:r>
              <a:rPr b="0" lang="de-DE" sz="1800" spc="-1" strike="noStrike">
                <a:solidFill>
                  <a:srgbClr val="c8c473"/>
                </a:solidFill>
                <a:latin typeface="Courier New"/>
              </a:rPr>
              <a:t>]))</a:t>
            </a:r>
            <a:r>
              <a:rPr b="0" lang="de-DE" sz="1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   </a:t>
            </a: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de-DE" sz="1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de-DE" sz="1800" spc="-1" strike="noStrike">
                <a:solidFill>
                  <a:srgbClr val="18b9b7"/>
                </a:solidFill>
                <a:latin typeface="Courier New"/>
              </a:rPr>
              <a:t>'success'</a:t>
            </a:r>
            <a:r>
              <a:rPr b="0" lang="de-DE" sz="1800" spc="-1" strike="noStrike">
                <a:solidFill>
                  <a:srgbClr val="c8c473"/>
                </a:solidFill>
                <a:latin typeface="Courier New"/>
              </a:rPr>
              <a:t>]</a:t>
            </a: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18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1800" spc="-1" strike="noStrike">
                <a:solidFill>
                  <a:srgbClr val="18b9b7"/>
                </a:solidFill>
                <a:latin typeface="Courier New"/>
              </a:rPr>
              <a:t>'Record Added'</a:t>
            </a:r>
            <a:r>
              <a:rPr b="0" lang="de-DE" sz="1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   </a:t>
            </a:r>
            <a:r>
              <a:rPr b="1" lang="de-DE" sz="1800" spc="-1" strike="noStrike">
                <a:solidFill>
                  <a:srgbClr val="dd495d"/>
                </a:solidFill>
                <a:latin typeface="Courier-Bold"/>
              </a:rPr>
              <a:t>header</a:t>
            </a:r>
            <a:r>
              <a:rPr b="0" lang="de-DE" sz="1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1800" spc="-1" strike="noStrike">
                <a:solidFill>
                  <a:srgbClr val="18b9b7"/>
                </a:solidFill>
                <a:latin typeface="Courier New"/>
              </a:rPr>
              <a:t>'Location: index.php'</a:t>
            </a: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18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1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   </a:t>
            </a:r>
            <a:r>
              <a:rPr b="1" lang="de-DE" sz="1800" spc="-1" strike="noStrike">
                <a:solidFill>
                  <a:srgbClr val="dd495d"/>
                </a:solidFill>
                <a:latin typeface="Courier-Bold"/>
              </a:rPr>
              <a:t>return</a:t>
            </a:r>
            <a:r>
              <a:rPr b="0" lang="de-DE" sz="1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Line 6"/>
          <p:cNvSpPr/>
          <p:nvPr/>
        </p:nvSpPr>
        <p:spPr>
          <a:xfrm flipV="1">
            <a:off x="5554800" y="3863520"/>
            <a:ext cx="3240000" cy="685800"/>
          </a:xfrm>
          <a:prstGeom prst="line">
            <a:avLst/>
          </a:prstGeom>
          <a:ln w="88920">
            <a:solidFill>
              <a:srgbClr val="00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Line 7"/>
          <p:cNvSpPr/>
          <p:nvPr/>
        </p:nvSpPr>
        <p:spPr>
          <a:xfrm flipH="1">
            <a:off x="6638400" y="7416720"/>
            <a:ext cx="2156040" cy="0"/>
          </a:xfrm>
          <a:prstGeom prst="line">
            <a:avLst/>
          </a:prstGeom>
          <a:ln w="8892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9037440" y="6965640"/>
            <a:ext cx="6934680" cy="85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if ( isset($_SESSION['success']) ) {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echo '&lt;p style="color:green"&gt;'.$_SESSION['success']."&lt;/p&gt;\n"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unset($_SESSION['success'])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2861360" y="1069560"/>
            <a:ext cx="28872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delete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777840" y="1905120"/>
            <a:ext cx="3110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Don't alter data in a GET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9610560" y="4300560"/>
            <a:ext cx="6621480" cy="42339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722160" y="609480"/>
            <a:ext cx="12213000" cy="87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b2c5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require_onc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"pdo.php"</a:t>
            </a:r>
            <a:r>
              <a:rPr b="0" lang="en-US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session_start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)</a:t>
            </a:r>
            <a:r>
              <a:rPr b="0" lang="en-US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isset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_POST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delete'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])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&amp;&amp;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isset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_POST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user_id'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])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sql 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"DELETE FROM users WHERE user_id = :zip"</a:t>
            </a:r>
            <a:r>
              <a:rPr b="0" lang="en-US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stmt 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$pdo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-&gt;</a:t>
            </a: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prepare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sql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stmt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-&gt;</a:t>
            </a: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execute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array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:zip'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&gt;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$_POST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user_id'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]))</a:t>
            </a:r>
            <a:r>
              <a:rPr b="0" lang="en-US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_SESSION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success'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Record deleted'</a:t>
            </a:r>
            <a:r>
              <a:rPr b="0" lang="en-US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header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Location: index.php'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pl-PL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return</a:t>
            </a:r>
            <a:r>
              <a:rPr b="0" lang="pl-PL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stmt 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$pdo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-&gt;</a:t>
            </a:r>
            <a:r>
              <a:rPr b="0" lang="pl-PL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prepare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pl-PL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"SELECT name, user_id FROM users where user_id = :xyz"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pl-PL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stmt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-&gt;</a:t>
            </a:r>
            <a:r>
              <a:rPr b="0" lang="pl-PL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execute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pl-PL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array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pl-PL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":xyz"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&gt;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$_GET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pl-PL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user_id'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]))</a:t>
            </a:r>
            <a:r>
              <a:rPr b="0" lang="pl-PL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row 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$stmt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-&gt;</a:t>
            </a:r>
            <a:r>
              <a:rPr b="0" lang="pl-PL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fetch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pl-PL" sz="2000" spc="-1" strike="noStrike">
                <a:solidFill>
                  <a:srgbClr val="ab6464"/>
                </a:solidFill>
                <a:latin typeface="Courier New"/>
                <a:ea typeface="Courier New"/>
              </a:rPr>
              <a:t>PDO</a:t>
            </a:r>
            <a:r>
              <a:rPr b="0" lang="pl-PL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::</a:t>
            </a:r>
            <a:r>
              <a:rPr b="0" lang="pl-PL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FETCH_ASSOC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pl-PL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$row 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==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f3b62"/>
                </a:solidFill>
                <a:latin typeface="Courier New"/>
                <a:ea typeface="Courier New"/>
              </a:rPr>
              <a:t>fals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_SESSION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error'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Bad value for user_id'</a:t>
            </a:r>
            <a:r>
              <a:rPr b="0" lang="en-US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header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Location: index.php'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pl-PL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return</a:t>
            </a:r>
            <a:r>
              <a:rPr b="0" lang="pl-PL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b2c5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</a:t>
            </a: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p</a:t>
            </a:r>
            <a:r>
              <a:rPr b="0" lang="en-US" sz="20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r>
              <a:rPr b="0" lang="en-US" sz="2000" spc="-1" strike="noStrike">
                <a:solidFill>
                  <a:srgbClr val="c7c7c7"/>
                </a:solidFill>
                <a:latin typeface="Courier New"/>
                <a:ea typeface="Courier New"/>
              </a:rPr>
              <a:t>Confirm: Deleting </a:t>
            </a:r>
            <a:r>
              <a:rPr b="0" lang="en-US" sz="2000" spc="-1" strike="noStrike">
                <a:solidFill>
                  <a:srgbClr val="f2b2c5"/>
                </a:solidFill>
                <a:latin typeface="Courier New"/>
                <a:ea typeface="Courier New"/>
              </a:rPr>
              <a:t>&lt;?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htmlentities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row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name'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])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2b2c5"/>
                </a:solidFill>
                <a:latin typeface="Courier New"/>
                <a:ea typeface="Courier New"/>
              </a:rPr>
              <a:t>?&gt;</a:t>
            </a:r>
            <a:r>
              <a:rPr b="0" lang="en-US" sz="20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p</a:t>
            </a:r>
            <a:r>
              <a:rPr b="0" lang="en-US" sz="20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</a:t>
            </a: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form</a:t>
            </a:r>
            <a:r>
              <a:rPr b="0" lang="en-US" sz="2000" spc="-1" strike="noStrike">
                <a:solidFill>
                  <a:srgbClr val="c7c7c7"/>
                </a:solidFill>
                <a:latin typeface="Courier New"/>
                <a:ea typeface="Courier New"/>
              </a:rPr>
              <a:t> method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"post"</a:t>
            </a:r>
            <a:r>
              <a:rPr b="0" lang="en-US" sz="20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&lt;</a:t>
            </a: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c7c7c7"/>
                </a:solidFill>
                <a:latin typeface="Courier New"/>
                <a:ea typeface="Courier New"/>
              </a:rPr>
              <a:t> type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"hidden"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c7c7"/>
                </a:solidFill>
                <a:latin typeface="Courier New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"user_id"</a:t>
            </a:r>
            <a:r>
              <a:rPr b="0" lang="en-US" sz="2000" spc="-1" strike="noStrike">
                <a:solidFill>
                  <a:srgbClr val="c7c7c7"/>
                </a:solidFill>
                <a:latin typeface="Courier New"/>
                <a:ea typeface="Courier New"/>
              </a:rPr>
              <a:t> value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"</a:t>
            </a:r>
            <a:r>
              <a:rPr b="0" lang="en-US" sz="2000" spc="-1" strike="noStrike">
                <a:solidFill>
                  <a:srgbClr val="f2b2c5"/>
                </a:solidFill>
                <a:latin typeface="Courier New"/>
                <a:ea typeface="Courier New"/>
              </a:rPr>
              <a:t>&lt;?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$row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user_id'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2b2c5"/>
                </a:solidFill>
                <a:latin typeface="Courier New"/>
                <a:ea typeface="Courier New"/>
              </a:rPr>
              <a:t>?&gt;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"</a:t>
            </a:r>
            <a:r>
              <a:rPr b="0" lang="en-US" sz="20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</a:t>
            </a: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c7c7c7"/>
                </a:solidFill>
                <a:latin typeface="Courier New"/>
                <a:ea typeface="Courier New"/>
              </a:rPr>
              <a:t> type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"submit"</a:t>
            </a:r>
            <a:r>
              <a:rPr b="0" lang="en-US" sz="2000" spc="-1" strike="noStrike">
                <a:solidFill>
                  <a:srgbClr val="c7c7c7"/>
                </a:solidFill>
                <a:latin typeface="Courier New"/>
                <a:ea typeface="Courier New"/>
              </a:rPr>
              <a:t> value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"Delete"</a:t>
            </a:r>
            <a:r>
              <a:rPr b="0" lang="en-US" sz="2000" spc="-1" strike="noStrike">
                <a:solidFill>
                  <a:srgbClr val="c7c7c7"/>
                </a:solidFill>
                <a:latin typeface="Courier New"/>
                <a:ea typeface="Courier New"/>
              </a:rPr>
              <a:t> name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"delete"</a:t>
            </a:r>
            <a:r>
              <a:rPr b="0" lang="en-US" sz="20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</a:t>
            </a: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a</a:t>
            </a:r>
            <a:r>
              <a:rPr b="0" lang="en-US" sz="2000" spc="-1" strike="noStrike">
                <a:solidFill>
                  <a:srgbClr val="c7c7c7"/>
                </a:solidFill>
                <a:latin typeface="Courier New"/>
                <a:ea typeface="Courier New"/>
              </a:rPr>
              <a:t> href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"index.php"</a:t>
            </a:r>
            <a:r>
              <a:rPr b="0" lang="en-US" sz="20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r>
              <a:rPr b="0" lang="en-US" sz="2000" spc="-1" strike="noStrike">
                <a:solidFill>
                  <a:srgbClr val="c7c7c7"/>
                </a:solidFill>
                <a:latin typeface="Courier New"/>
                <a:ea typeface="Courier New"/>
              </a:rPr>
              <a:t>Cancel</a:t>
            </a:r>
            <a:r>
              <a:rPr b="0" lang="en-US" sz="20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a</a:t>
            </a:r>
            <a:r>
              <a:rPr b="0" lang="en-US" sz="20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form</a:t>
            </a:r>
            <a:r>
              <a:rPr b="0" lang="en-US" sz="20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582480" y="5020200"/>
            <a:ext cx="770436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b2c5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495d"/>
                </a:solidFill>
                <a:latin typeface="Courier-Bold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dd495d"/>
                </a:solidFill>
                <a:latin typeface="Courier-Bold"/>
              </a:rPr>
              <a:t>isset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_POST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1800" spc="-1" strike="noStrike">
                <a:solidFill>
                  <a:srgbClr val="18b9b7"/>
                </a:solidFill>
                <a:latin typeface="Courier New"/>
              </a:rPr>
              <a:t>'delete'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&amp;&amp;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dd495d"/>
                </a:solidFill>
                <a:latin typeface="Courier-Bold"/>
              </a:rPr>
              <a:t>isset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_POST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1800" spc="-1" strike="noStrike">
                <a:solidFill>
                  <a:srgbClr val="18b9b7"/>
                </a:solidFill>
                <a:latin typeface="Courier New"/>
              </a:rPr>
              <a:t>'user_id'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9f47a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ql 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18b9b7"/>
                </a:solidFill>
                <a:latin typeface="Courier New"/>
              </a:rPr>
              <a:t>"DELETE FROM users WHERE user_id = :zip"</a:t>
            </a:r>
            <a:r>
              <a:rPr b="0" lang="en-US" sz="1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mt 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$pdo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-&gt;</a:t>
            </a:r>
            <a:r>
              <a:rPr b="0" lang="en-US" sz="1800" spc="-1" strike="noStrike">
                <a:solidFill>
                  <a:srgbClr val="dd495d"/>
                </a:solidFill>
                <a:latin typeface="Courier-Bold"/>
              </a:rPr>
              <a:t>prepare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ql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1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mt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-&gt;</a:t>
            </a:r>
            <a:r>
              <a:rPr b="0" lang="en-US" sz="1800" spc="-1" strike="noStrike">
                <a:solidFill>
                  <a:srgbClr val="dd495d"/>
                </a:solidFill>
                <a:latin typeface="Courier-Bold"/>
              </a:rPr>
              <a:t>execute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dd495d"/>
                </a:solidFill>
                <a:latin typeface="Courier-Bold"/>
              </a:rPr>
              <a:t>array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18b9b7"/>
                </a:solidFill>
                <a:latin typeface="Courier New"/>
              </a:rPr>
              <a:t>':zip'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=&gt;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$_POST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1800" spc="-1" strike="noStrike">
                <a:solidFill>
                  <a:srgbClr val="18b9b7"/>
                </a:solidFill>
                <a:latin typeface="Courier New"/>
              </a:rPr>
              <a:t>'user_id'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]))</a:t>
            </a:r>
            <a:r>
              <a:rPr b="0" lang="en-US" sz="1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1800" spc="-1" strike="noStrike">
                <a:solidFill>
                  <a:srgbClr val="18b9b7"/>
                </a:solidFill>
                <a:latin typeface="Courier New"/>
              </a:rPr>
              <a:t>'success'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]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18b9b7"/>
                </a:solidFill>
                <a:latin typeface="Courier New"/>
              </a:rPr>
              <a:t>'Record deleted'</a:t>
            </a:r>
            <a:r>
              <a:rPr b="0" lang="en-US" sz="1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en-US" sz="1800" spc="-1" strike="noStrike">
                <a:solidFill>
                  <a:srgbClr val="dd495d"/>
                </a:solidFill>
                <a:latin typeface="Courier-Bold"/>
              </a:rPr>
              <a:t>header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18b9b7"/>
                </a:solidFill>
                <a:latin typeface="Courier New"/>
              </a:rPr>
              <a:t>'Location: index.php'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pl-PL" sz="1800" spc="-1" strike="noStrike">
                <a:solidFill>
                  <a:srgbClr val="dd495d"/>
                </a:solidFill>
                <a:latin typeface="Courier-Bold"/>
              </a:rPr>
              <a:t>return</a:t>
            </a:r>
            <a:r>
              <a:rPr b="0" lang="pl-PL" sz="1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f47a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b2c5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Line 7"/>
          <p:cNvSpPr/>
          <p:nvPr/>
        </p:nvSpPr>
        <p:spPr>
          <a:xfrm flipH="1">
            <a:off x="6570360" y="6477120"/>
            <a:ext cx="2128680" cy="158760"/>
          </a:xfrm>
          <a:prstGeom prst="line">
            <a:avLst/>
          </a:prstGeom>
          <a:ln w="8892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rcRect l="0" t="0" r="0" b="38881"/>
          <a:stretch/>
        </p:blipFill>
        <p:spPr>
          <a:xfrm>
            <a:off x="8577360" y="507960"/>
            <a:ext cx="7807320" cy="3051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2"/>
          <a:srcRect l="0" t="0" r="0" b="31417"/>
          <a:stretch/>
        </p:blipFill>
        <p:spPr>
          <a:xfrm>
            <a:off x="279360" y="666720"/>
            <a:ext cx="7905960" cy="407196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 flipV="1">
            <a:off x="6570720" y="2405160"/>
            <a:ext cx="2371680" cy="2457360"/>
          </a:xfrm>
          <a:prstGeom prst="line">
            <a:avLst/>
          </a:prstGeom>
          <a:ln w="88920">
            <a:solidFill>
              <a:srgbClr val="00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3"/>
          <a:srcRect l="0" t="0" r="0" b="36441"/>
          <a:stretch/>
        </p:blipFill>
        <p:spPr>
          <a:xfrm>
            <a:off x="8370720" y="3562200"/>
            <a:ext cx="8220240" cy="35528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6232680" y="7303680"/>
            <a:ext cx="9993240" cy="91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if ( isset($_SESSION['success']) ) {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echo '&lt;p style="color:green"&gt;'.$_SESSION['success']."&lt;/p&gt;\n"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unset($_SESSION['success']);}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0186920" y="2362320"/>
            <a:ext cx="5821560" cy="39621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560160" y="762120"/>
            <a:ext cx="10384200" cy="83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b2c5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require_onc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"pdo.php"</a:t>
            </a:r>
            <a:r>
              <a:rPr b="0" lang="en-US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session_start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)</a:t>
            </a:r>
            <a:r>
              <a:rPr b="0" lang="en-US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isset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_POST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name'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])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&amp;&amp;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isset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_POST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email'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]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  </a:t>
            </a:r>
            <a:r>
              <a:rPr b="0" lang="de-DE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&amp;&amp;</a:t>
            </a:r>
            <a:r>
              <a:rPr b="0" lang="de-DE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de-DE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isset</a:t>
            </a:r>
            <a:r>
              <a:rPr b="0" lang="de-DE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de-DE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_POST</a:t>
            </a:r>
            <a:r>
              <a:rPr b="0" lang="de-DE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de-DE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password'</a:t>
            </a:r>
            <a:r>
              <a:rPr b="0" lang="de-DE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])</a:t>
            </a:r>
            <a:r>
              <a:rPr b="0" lang="de-DE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de-DE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&amp;&amp;</a:t>
            </a:r>
            <a:r>
              <a:rPr b="0" lang="de-DE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de-DE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isset</a:t>
            </a:r>
            <a:r>
              <a:rPr b="0" lang="de-DE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de-DE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_POST</a:t>
            </a:r>
            <a:r>
              <a:rPr b="0" lang="de-DE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de-DE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user_id'</a:t>
            </a:r>
            <a:r>
              <a:rPr b="0" lang="de-DE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])</a:t>
            </a:r>
            <a:r>
              <a:rPr b="0" lang="de-DE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de-DE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de-DE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de-DE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de-DE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sql </a:t>
            </a:r>
            <a:r>
              <a:rPr b="0" lang="de-DE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de-DE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de-DE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"UPDATE users SET name = :name,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             </a:t>
            </a:r>
            <a:r>
              <a:rPr b="0" lang="de-DE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email = :email, password = :passwor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            </a:t>
            </a:r>
            <a:r>
              <a:rPr b="0" lang="pl-PL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WHERE user_id = :user_id"</a:t>
            </a:r>
            <a:r>
              <a:rPr b="0" lang="pl-PL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stmt 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$pdo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-&gt;</a:t>
            </a:r>
            <a:r>
              <a:rPr b="0" lang="pl-PL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prepare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sql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pl-PL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stmt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-&gt;</a:t>
            </a:r>
            <a:r>
              <a:rPr b="0" lang="pl-PL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execute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pl-PL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array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    </a:t>
            </a:r>
            <a:r>
              <a:rPr b="0" lang="tr-TR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:name'</a:t>
            </a:r>
            <a:r>
              <a:rPr b="0" lang="tr-T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&gt;</a:t>
            </a:r>
            <a:r>
              <a:rPr b="0" lang="tr-T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$_POST</a:t>
            </a:r>
            <a:r>
              <a:rPr b="0" lang="tr-TR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tr-TR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name'</a:t>
            </a:r>
            <a:r>
              <a:rPr b="0" lang="tr-TR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],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    </a:t>
            </a:r>
            <a:r>
              <a:rPr b="0" lang="tr-TR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:email'</a:t>
            </a:r>
            <a:r>
              <a:rPr b="0" lang="tr-T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&gt;</a:t>
            </a:r>
            <a:r>
              <a:rPr b="0" lang="tr-T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$_POST</a:t>
            </a:r>
            <a:r>
              <a:rPr b="0" lang="tr-TR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tr-TR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email'</a:t>
            </a:r>
            <a:r>
              <a:rPr b="0" lang="tr-TR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],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    </a:t>
            </a:r>
            <a:r>
              <a:rPr b="0" lang="de-DE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:password'</a:t>
            </a:r>
            <a:r>
              <a:rPr b="0" lang="de-DE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de-DE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&gt;</a:t>
            </a:r>
            <a:r>
              <a:rPr b="0" lang="de-DE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$_POST</a:t>
            </a:r>
            <a:r>
              <a:rPr b="0" lang="de-DE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de-DE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password'</a:t>
            </a:r>
            <a:r>
              <a:rPr b="0" lang="de-DE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],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    </a:t>
            </a:r>
            <a:r>
              <a:rPr b="0" lang="tr-TR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:user_id'</a:t>
            </a:r>
            <a:r>
              <a:rPr b="0" lang="tr-T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&gt;</a:t>
            </a:r>
            <a:r>
              <a:rPr b="0" lang="tr-T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$_POST</a:t>
            </a:r>
            <a:r>
              <a:rPr b="0" lang="tr-TR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tr-TR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user_id'</a:t>
            </a:r>
            <a:r>
              <a:rPr b="0" lang="tr-TR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]))</a:t>
            </a:r>
            <a:r>
              <a:rPr b="0" lang="tr-TR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tr-T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_SESSION</a:t>
            </a:r>
            <a:r>
              <a:rPr b="0" lang="tr-TR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tr-TR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success'</a:t>
            </a:r>
            <a:r>
              <a:rPr b="0" lang="tr-TR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]</a:t>
            </a:r>
            <a:r>
              <a:rPr b="0" lang="tr-T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tr-T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Record updated'</a:t>
            </a:r>
            <a:r>
              <a:rPr b="0" lang="tr-TR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tr-TR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header</a:t>
            </a:r>
            <a:r>
              <a:rPr b="0" lang="tr-TR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tr-T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Location: index.php'</a:t>
            </a:r>
            <a:r>
              <a:rPr b="0" lang="tr-T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tr-T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pl-PL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return</a:t>
            </a:r>
            <a:r>
              <a:rPr b="0" lang="pl-PL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stmt 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$pdo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-&gt;</a:t>
            </a:r>
            <a:r>
              <a:rPr b="0" lang="pl-PL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prepare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pl-PL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"SELECT * FROM users where user_id = :xyz"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pl-PL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stmt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-&gt;</a:t>
            </a:r>
            <a:r>
              <a:rPr b="0" lang="pl-PL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execute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pl-PL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array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pl-PL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":xyz"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&gt;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$_GET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pl-PL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user_id'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]))</a:t>
            </a:r>
            <a:r>
              <a:rPr b="0" lang="pl-PL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row 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$stmt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-&gt;</a:t>
            </a:r>
            <a:r>
              <a:rPr b="0" lang="pl-PL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fetch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pl-PL" sz="2000" spc="-1" strike="noStrike">
                <a:solidFill>
                  <a:srgbClr val="ab6464"/>
                </a:solidFill>
                <a:latin typeface="Courier New"/>
                <a:ea typeface="Courier New"/>
              </a:rPr>
              <a:t>PDO</a:t>
            </a:r>
            <a:r>
              <a:rPr b="0" lang="pl-PL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::</a:t>
            </a:r>
            <a:r>
              <a:rPr b="0" lang="pl-PL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FETCH_ASSOC</a:t>
            </a:r>
            <a:r>
              <a:rPr b="0" lang="pl-PL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pl-PL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$row 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==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f3b62"/>
                </a:solidFill>
                <a:latin typeface="Courier New"/>
                <a:ea typeface="Courier New"/>
              </a:rPr>
              <a:t>fals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$_SESSION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error'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Bad value for user_id'</a:t>
            </a:r>
            <a:r>
              <a:rPr b="0" lang="en-US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en-US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header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  <a:ea typeface="Courier New"/>
              </a:rPr>
              <a:t>'Location: index.php'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pl-PL" sz="2000" spc="-1" strike="noStrike">
                <a:solidFill>
                  <a:srgbClr val="dd495d"/>
                </a:solidFill>
                <a:latin typeface="Courier New"/>
                <a:ea typeface="Courier New"/>
              </a:rPr>
              <a:t>return</a:t>
            </a:r>
            <a:r>
              <a:rPr b="0" lang="pl-PL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f47a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13664880" y="7394400"/>
            <a:ext cx="2241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edit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573120" y="1455840"/>
            <a:ext cx="167004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$n = htmlentities($row['name']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$e = htmlentities($row['email']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$p = htmlentities($row['password']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$user_id = $row['user_id']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?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0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Edit User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0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0" lang="en-US" sz="2500" spc="-1" strike="noStrike">
                <a:solidFill>
                  <a:srgbClr val="dd495d"/>
                </a:solidFill>
                <a:latin typeface="Courier-Bold"/>
              </a:rPr>
              <a:t>form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method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post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0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Name: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0" lang="en-US" sz="2500" spc="-1" strike="noStrike">
                <a:solidFill>
                  <a:srgbClr val="dd495d"/>
                </a:solidFill>
                <a:latin typeface="Courier-Bold"/>
              </a:rPr>
              <a:t>input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typ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text"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nam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name"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valu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f2b2c5"/>
                </a:solidFill>
                <a:latin typeface="Courier New"/>
              </a:rPr>
              <a:t>&lt;?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$n </a:t>
            </a:r>
            <a:r>
              <a:rPr b="0" lang="en-US" sz="2500" spc="-1" strike="noStrike">
                <a:solidFill>
                  <a:srgbClr val="f2b2c5"/>
                </a:solidFill>
                <a:latin typeface="Courier New"/>
              </a:rPr>
              <a:t>?&gt;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&lt;/</a:t>
            </a:r>
            <a:r>
              <a:rPr b="0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0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Email: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0" lang="en-US" sz="2500" spc="-1" strike="noStrike">
                <a:solidFill>
                  <a:srgbClr val="dd495d"/>
                </a:solidFill>
                <a:latin typeface="Courier-Bold"/>
              </a:rPr>
              <a:t>input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typ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text"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nam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email"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valu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f2b2c5"/>
                </a:solidFill>
                <a:latin typeface="Courier New"/>
              </a:rPr>
              <a:t>&lt;?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$e </a:t>
            </a:r>
            <a:r>
              <a:rPr b="0" lang="en-US" sz="2500" spc="-1" strike="noStrike">
                <a:solidFill>
                  <a:srgbClr val="f2b2c5"/>
                </a:solidFill>
                <a:latin typeface="Courier New"/>
              </a:rPr>
              <a:t>?&gt;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&lt;/</a:t>
            </a:r>
            <a:r>
              <a:rPr b="0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0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Password: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0" lang="en-US" sz="2500" spc="-1" strike="noStrike">
                <a:solidFill>
                  <a:srgbClr val="dd495d"/>
                </a:solidFill>
                <a:latin typeface="Courier-Bold"/>
              </a:rPr>
              <a:t>input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typ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text"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nam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password"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valu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f2b2c5"/>
                </a:solidFill>
                <a:latin typeface="Courier New"/>
              </a:rPr>
              <a:t>&lt;?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$p </a:t>
            </a:r>
            <a:r>
              <a:rPr b="0" lang="en-US" sz="2500" spc="-1" strike="noStrike">
                <a:solidFill>
                  <a:srgbClr val="f2b2c5"/>
                </a:solidFill>
                <a:latin typeface="Courier New"/>
              </a:rPr>
              <a:t>?&gt;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&lt;/</a:t>
            </a:r>
            <a:r>
              <a:rPr b="0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0" lang="en-US" sz="2500" spc="-1" strike="noStrike">
                <a:solidFill>
                  <a:srgbClr val="dd495d"/>
                </a:solidFill>
                <a:latin typeface="Courier-Bold"/>
              </a:rPr>
              <a:t>input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typ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hidden"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nam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user_id"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valu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f2b2c5"/>
                </a:solidFill>
                <a:latin typeface="Courier New"/>
              </a:rPr>
              <a:t>&lt;?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$user_id </a:t>
            </a:r>
            <a:r>
              <a:rPr b="0" lang="en-US" sz="2500" spc="-1" strike="noStrike">
                <a:solidFill>
                  <a:srgbClr val="f2b2c5"/>
                </a:solidFill>
                <a:latin typeface="Courier New"/>
              </a:rPr>
              <a:t>?&gt;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0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&lt;</a:t>
            </a:r>
            <a:r>
              <a:rPr b="0" lang="en-US" sz="2500" spc="-1" strike="noStrike">
                <a:solidFill>
                  <a:srgbClr val="dd495d"/>
                </a:solidFill>
                <a:latin typeface="Courier-Bold"/>
              </a:rPr>
              <a:t>input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typ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submit"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valu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Update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/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0" lang="en-US" sz="2500" spc="-1" strike="noStrike">
                <a:solidFill>
                  <a:srgbClr val="dd495d"/>
                </a:solidFill>
                <a:latin typeface="Courier-Bold"/>
              </a:rPr>
              <a:t>a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href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index.php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Cancel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0" lang="en-US" sz="2500" spc="-1" strike="noStrike">
                <a:solidFill>
                  <a:srgbClr val="dd495d"/>
                </a:solidFill>
                <a:latin typeface="Courier-Bold"/>
              </a:rPr>
              <a:t>a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&lt;/</a:t>
            </a:r>
            <a:r>
              <a:rPr b="0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0" lang="en-US" sz="2500" spc="-1" strike="noStrike">
                <a:solidFill>
                  <a:srgbClr val="dd495d"/>
                </a:solidFill>
                <a:latin typeface="Courier-Bold"/>
              </a:rPr>
              <a:t>form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3664880" y="7394400"/>
            <a:ext cx="2241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edit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9882360" y="533520"/>
            <a:ext cx="6586200" cy="44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860040" y="4298040"/>
            <a:ext cx="85258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495d"/>
                </a:solidFill>
                <a:latin typeface="Courier-Bold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dd495d"/>
                </a:solidFill>
                <a:latin typeface="Courier-Bold"/>
              </a:rPr>
              <a:t>isset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_POST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1800" spc="-1" strike="noStrike">
                <a:solidFill>
                  <a:srgbClr val="18b9b7"/>
                </a:solidFill>
                <a:latin typeface="Courier New"/>
              </a:rPr>
              <a:t>'name'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&amp;&amp;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dd495d"/>
                </a:solidFill>
                <a:latin typeface="Courier-Bold"/>
              </a:rPr>
              <a:t>isset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_POST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1800" spc="-1" strike="noStrike">
                <a:solidFill>
                  <a:srgbClr val="18b9b7"/>
                </a:solidFill>
                <a:latin typeface="Courier New"/>
              </a:rPr>
              <a:t>'email'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])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     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&amp;&amp;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dd495d"/>
                </a:solidFill>
                <a:latin typeface="Courier-Bold"/>
              </a:rPr>
              <a:t>isset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_POST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1800" spc="-1" strike="noStrike">
                <a:solidFill>
                  <a:srgbClr val="18b9b7"/>
                </a:solidFill>
                <a:latin typeface="Courier New"/>
              </a:rPr>
              <a:t>'password'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&amp;&amp;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dd495d"/>
                </a:solidFill>
                <a:latin typeface="Courier-Bold"/>
              </a:rPr>
              <a:t>isset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_POST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1800" spc="-1" strike="noStrike">
                <a:solidFill>
                  <a:srgbClr val="18b9b7"/>
                </a:solidFill>
                <a:latin typeface="Courier New"/>
              </a:rPr>
              <a:t>'user_id'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9f47a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ql </a:t>
            </a:r>
            <a:r>
              <a:rPr b="0" lang="en-US" sz="18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18b9b7"/>
                </a:solidFill>
                <a:latin typeface="Courier New"/>
              </a:rPr>
              <a:t>"UPDATE users SET name = :name,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b9b7"/>
                </a:solidFill>
                <a:latin typeface="Courier New"/>
              </a:rPr>
              <a:t>             </a:t>
            </a:r>
            <a:r>
              <a:rPr b="0" lang="en-US" sz="1800" spc="-1" strike="noStrike">
                <a:solidFill>
                  <a:srgbClr val="18b9b7"/>
                </a:solidFill>
                <a:latin typeface="Courier New"/>
              </a:rPr>
              <a:t>email = :email, password = :passwor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8b9b7"/>
                </a:solidFill>
                <a:latin typeface="Courier New"/>
              </a:rPr>
              <a:t>            </a:t>
            </a:r>
            <a:r>
              <a:rPr b="0" lang="pl-PL" sz="1800" spc="-1" strike="noStrike">
                <a:solidFill>
                  <a:srgbClr val="18b9b7"/>
                </a:solidFill>
                <a:latin typeface="Courier New"/>
              </a:rPr>
              <a:t>WHERE user_id = :user_id"</a:t>
            </a:r>
            <a:r>
              <a:rPr b="0" lang="pl-PL" sz="1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$stmt </a:t>
            </a:r>
            <a:r>
              <a:rPr b="0" lang="pl-PL" sz="18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 $pdo</a:t>
            </a:r>
            <a:r>
              <a:rPr b="0" lang="pl-PL" sz="1800" spc="-1" strike="noStrike">
                <a:solidFill>
                  <a:srgbClr val="c8c473"/>
                </a:solidFill>
                <a:latin typeface="Courier New"/>
              </a:rPr>
              <a:t>-&gt;</a:t>
            </a:r>
            <a:r>
              <a:rPr b="0" lang="pl-PL" sz="1800" spc="-1" strike="noStrike">
                <a:solidFill>
                  <a:srgbClr val="dd495d"/>
                </a:solidFill>
                <a:latin typeface="Courier-Bold"/>
              </a:rPr>
              <a:t>prepare</a:t>
            </a:r>
            <a:r>
              <a:rPr b="0" lang="pl-PL" sz="1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$sql</a:t>
            </a:r>
            <a:r>
              <a:rPr b="0" lang="pl-PL" sz="18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pl-PL" sz="1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$stmt</a:t>
            </a:r>
            <a:r>
              <a:rPr b="0" lang="pl-PL" sz="1800" spc="-1" strike="noStrike">
                <a:solidFill>
                  <a:srgbClr val="c8c473"/>
                </a:solidFill>
                <a:latin typeface="Courier New"/>
              </a:rPr>
              <a:t>-&gt;</a:t>
            </a:r>
            <a:r>
              <a:rPr b="0" lang="pl-PL" sz="1800" spc="-1" strike="noStrike">
                <a:solidFill>
                  <a:srgbClr val="dd495d"/>
                </a:solidFill>
                <a:latin typeface="Courier-Bold"/>
              </a:rPr>
              <a:t>execute</a:t>
            </a:r>
            <a:r>
              <a:rPr b="0" lang="pl-PL" sz="1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pl-PL" sz="1800" spc="-1" strike="noStrike">
                <a:solidFill>
                  <a:srgbClr val="dd495d"/>
                </a:solidFill>
                <a:latin typeface="Courier-Bold"/>
              </a:rPr>
              <a:t>array</a:t>
            </a:r>
            <a:r>
              <a:rPr b="0" lang="pl-PL" sz="1800" spc="-1" strike="noStrike">
                <a:solidFill>
                  <a:srgbClr val="c8c473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0" lang="tr-TR" sz="1800" spc="-1" strike="noStrike">
                <a:solidFill>
                  <a:srgbClr val="18b9b7"/>
                </a:solidFill>
                <a:latin typeface="Courier New"/>
              </a:rPr>
              <a:t>':name'</a:t>
            </a: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r-TR" sz="1800" spc="-1" strike="noStrike">
                <a:solidFill>
                  <a:srgbClr val="c8c473"/>
                </a:solidFill>
                <a:latin typeface="Courier New"/>
              </a:rPr>
              <a:t>=&gt;</a:t>
            </a: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 $_POST</a:t>
            </a:r>
            <a:r>
              <a:rPr b="0" lang="tr-TR" sz="1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tr-TR" sz="1800" spc="-1" strike="noStrike">
                <a:solidFill>
                  <a:srgbClr val="18b9b7"/>
                </a:solidFill>
                <a:latin typeface="Courier New"/>
              </a:rPr>
              <a:t>'name'</a:t>
            </a:r>
            <a:r>
              <a:rPr b="0" lang="tr-TR" sz="1800" spc="-1" strike="noStrike">
                <a:solidFill>
                  <a:srgbClr val="c8c473"/>
                </a:solidFill>
                <a:latin typeface="Courier New"/>
              </a:rPr>
              <a:t>],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0" lang="tr-TR" sz="1800" spc="-1" strike="noStrike">
                <a:solidFill>
                  <a:srgbClr val="18b9b7"/>
                </a:solidFill>
                <a:latin typeface="Courier New"/>
              </a:rPr>
              <a:t>':email'</a:t>
            </a: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r-TR" sz="1800" spc="-1" strike="noStrike">
                <a:solidFill>
                  <a:srgbClr val="c8c473"/>
                </a:solidFill>
                <a:latin typeface="Courier New"/>
              </a:rPr>
              <a:t>=&gt;</a:t>
            </a: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 $_POST</a:t>
            </a:r>
            <a:r>
              <a:rPr b="0" lang="tr-TR" sz="1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tr-TR" sz="1800" spc="-1" strike="noStrike">
                <a:solidFill>
                  <a:srgbClr val="18b9b7"/>
                </a:solidFill>
                <a:latin typeface="Courier New"/>
              </a:rPr>
              <a:t>'email'</a:t>
            </a:r>
            <a:r>
              <a:rPr b="0" lang="tr-TR" sz="1800" spc="-1" strike="noStrike">
                <a:solidFill>
                  <a:srgbClr val="c8c473"/>
                </a:solidFill>
                <a:latin typeface="Courier New"/>
              </a:rPr>
              <a:t>],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0" lang="de-DE" sz="1800" spc="-1" strike="noStrike">
                <a:solidFill>
                  <a:srgbClr val="18b9b7"/>
                </a:solidFill>
                <a:latin typeface="Courier New"/>
              </a:rPr>
              <a:t>':password'</a:t>
            </a: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1800" spc="-1" strike="noStrike">
                <a:solidFill>
                  <a:srgbClr val="c8c473"/>
                </a:solidFill>
                <a:latin typeface="Courier New"/>
              </a:rPr>
              <a:t>=&gt;</a:t>
            </a:r>
            <a:r>
              <a:rPr b="0" lang="de-DE" sz="1800" spc="-1" strike="noStrike">
                <a:solidFill>
                  <a:srgbClr val="ffffff"/>
                </a:solidFill>
                <a:latin typeface="Courier New"/>
              </a:rPr>
              <a:t> $_POST</a:t>
            </a:r>
            <a:r>
              <a:rPr b="0" lang="de-DE" sz="1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de-DE" sz="1800" spc="-1" strike="noStrike">
                <a:solidFill>
                  <a:srgbClr val="18b9b7"/>
                </a:solidFill>
                <a:latin typeface="Courier New"/>
              </a:rPr>
              <a:t>'password'</a:t>
            </a:r>
            <a:r>
              <a:rPr b="0" lang="de-DE" sz="1800" spc="-1" strike="noStrike">
                <a:solidFill>
                  <a:srgbClr val="c8c473"/>
                </a:solidFill>
                <a:latin typeface="Courier New"/>
              </a:rPr>
              <a:t>],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0" lang="tr-TR" sz="1800" spc="-1" strike="noStrike">
                <a:solidFill>
                  <a:srgbClr val="18b9b7"/>
                </a:solidFill>
                <a:latin typeface="Courier New"/>
              </a:rPr>
              <a:t>':user_id'</a:t>
            </a: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r-TR" sz="1800" spc="-1" strike="noStrike">
                <a:solidFill>
                  <a:srgbClr val="c8c473"/>
                </a:solidFill>
                <a:latin typeface="Courier New"/>
              </a:rPr>
              <a:t>=&gt;</a:t>
            </a: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 $_POST</a:t>
            </a:r>
            <a:r>
              <a:rPr b="0" lang="tr-TR" sz="1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tr-TR" sz="1800" spc="-1" strike="noStrike">
                <a:solidFill>
                  <a:srgbClr val="18b9b7"/>
                </a:solidFill>
                <a:latin typeface="Courier New"/>
              </a:rPr>
              <a:t>'user_id'</a:t>
            </a:r>
            <a:r>
              <a:rPr b="0" lang="tr-TR" sz="1800" spc="-1" strike="noStrike">
                <a:solidFill>
                  <a:srgbClr val="c8c473"/>
                </a:solidFill>
                <a:latin typeface="Courier New"/>
              </a:rPr>
              <a:t>]))</a:t>
            </a:r>
            <a:r>
              <a:rPr b="0" lang="tr-TR" sz="1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tr-TR" sz="1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tr-TR" sz="1800" spc="-1" strike="noStrike">
                <a:solidFill>
                  <a:srgbClr val="18b9b7"/>
                </a:solidFill>
                <a:latin typeface="Courier New"/>
              </a:rPr>
              <a:t>'success'</a:t>
            </a:r>
            <a:r>
              <a:rPr b="0" lang="tr-TR" sz="1800" spc="-1" strike="noStrike">
                <a:solidFill>
                  <a:srgbClr val="c8c473"/>
                </a:solidFill>
                <a:latin typeface="Courier New"/>
              </a:rPr>
              <a:t>]</a:t>
            </a: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r-TR" sz="18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r-TR" sz="1800" spc="-1" strike="noStrike">
                <a:solidFill>
                  <a:srgbClr val="18b9b7"/>
                </a:solidFill>
                <a:latin typeface="Courier New"/>
              </a:rPr>
              <a:t>'Record updated'</a:t>
            </a:r>
            <a:r>
              <a:rPr b="0" lang="tr-TR" sz="1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tr-TR" sz="1800" spc="-1" strike="noStrike">
                <a:solidFill>
                  <a:srgbClr val="dd495d"/>
                </a:solidFill>
                <a:latin typeface="Courier-Bold"/>
              </a:rPr>
              <a:t>header</a:t>
            </a:r>
            <a:r>
              <a:rPr b="0" lang="tr-TR" sz="1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r-TR" sz="1800" spc="-1" strike="noStrike">
                <a:solidFill>
                  <a:srgbClr val="18b9b7"/>
                </a:solidFill>
                <a:latin typeface="Courier New"/>
              </a:rPr>
              <a:t>'Location: index.php'</a:t>
            </a: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r-TR" sz="18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tr-TR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r-TR" sz="1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pl-PL" sz="1800" spc="-1" strike="noStrike">
                <a:solidFill>
                  <a:srgbClr val="dd495d"/>
                </a:solidFill>
                <a:latin typeface="Courier-Bold"/>
              </a:rPr>
              <a:t>return</a:t>
            </a:r>
            <a:r>
              <a:rPr b="0" lang="pl-PL" sz="1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f47a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6827760" y="3352680"/>
            <a:ext cx="2362320" cy="679680"/>
          </a:xfrm>
          <a:prstGeom prst="line">
            <a:avLst/>
          </a:prstGeom>
          <a:ln w="88920">
            <a:solidFill>
              <a:srgbClr val="00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Line 6"/>
          <p:cNvSpPr/>
          <p:nvPr/>
        </p:nvSpPr>
        <p:spPr>
          <a:xfrm flipH="1">
            <a:off x="6757920" y="6248520"/>
            <a:ext cx="2610000" cy="1066680"/>
          </a:xfrm>
          <a:prstGeom prst="line">
            <a:avLst/>
          </a:prstGeom>
          <a:ln w="8892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rcRect l="0" t="0" r="35000" b="23431"/>
          <a:stretch/>
        </p:blipFill>
        <p:spPr>
          <a:xfrm>
            <a:off x="814320" y="609480"/>
            <a:ext cx="5846760" cy="3068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" descr=""/>
          <p:cNvPicPr/>
          <p:nvPr/>
        </p:nvPicPr>
        <p:blipFill>
          <a:blip r:embed="rId2"/>
          <a:srcRect l="5751" t="7559" r="17446" b="36575"/>
          <a:stretch/>
        </p:blipFill>
        <p:spPr>
          <a:xfrm>
            <a:off x="9653760" y="4419720"/>
            <a:ext cx="5768640" cy="2857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"/>
          <p:cNvPicPr/>
          <p:nvPr/>
        </p:nvPicPr>
        <p:blipFill>
          <a:blip r:embed="rId3"/>
          <a:srcRect l="0" t="0" r="0" b="25272"/>
          <a:stretch/>
        </p:blipFill>
        <p:spPr>
          <a:xfrm>
            <a:off x="9120240" y="609480"/>
            <a:ext cx="6519960" cy="3314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13664880" y="7394400"/>
            <a:ext cx="2241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edit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Summary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90760" y="3080880"/>
            <a:ext cx="13236480" cy="496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marL="11048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Making database connections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1048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Doing database operations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1048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SQL security (a.k.a. we love PDO prepared statements)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1048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Exploring errors..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1048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A multi-file CRUD application with redirec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9840" y="844200"/>
            <a:ext cx="1323792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Gill Sans"/>
              </a:rPr>
              <a:t>Acknowledgements / Contribution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51" name="Picture 6" descr="CCby.png"/>
          <p:cNvPicPr/>
          <p:nvPr/>
        </p:nvPicPr>
        <p:blipFill>
          <a:blip r:embed="rId1"/>
          <a:stretch/>
        </p:blipFill>
        <p:spPr>
          <a:xfrm>
            <a:off x="13997160" y="984240"/>
            <a:ext cx="1969920" cy="6699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431640" y="2050920"/>
            <a:ext cx="7162920" cy="62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hese slides are Copyright 2010-  Charles R. Severance (www.dr-chuck.com) as part of www.wa4e.com and made available under a Creative Commons Attribution 4.0 License.  Please maintain this last slide in all copies of the document to comply with the attribution requirements of the license.  If you make a change, feel free to add your name and organization to the list of contributors on this page as you republish the materials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itial Development: Charles Severance, University of Michigan School of Inform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Gill Sans"/>
              </a:rPr>
              <a:t>Insert new Contributors and Translators here including names and dat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8434440" y="1947960"/>
            <a:ext cx="7162920" cy="59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Gill Sans"/>
              </a:rPr>
              <a:t>Continue new Contributors and Translators her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CRUD Pattern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1323792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 fontScale="93000"/>
          </a:bodyPr>
          <a:p>
            <a:pPr marL="1027440" indent="-73188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When we store things in database tables we generally nee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1440720" indent="-731880">
              <a:spcBef>
                <a:spcPts val="2299"/>
              </a:spcBef>
              <a:buClr>
                <a:srgbClr val="ff00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ff"/>
                </a:solidFill>
                <a:latin typeface="Gill Sans"/>
              </a:rPr>
              <a:t>Create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 - Insert a new row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1440720" indent="-731880">
              <a:spcBef>
                <a:spcPts val="2299"/>
              </a:spcBef>
              <a:buClr>
                <a:srgbClr val="ff00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ff"/>
                </a:solidFill>
                <a:latin typeface="Gill Sans"/>
              </a:rPr>
              <a:t>Read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 - Read existing row(s)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1440720" indent="-731880">
              <a:spcBef>
                <a:spcPts val="2299"/>
              </a:spcBef>
              <a:buClr>
                <a:srgbClr val="ff00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ff"/>
                </a:solidFill>
                <a:latin typeface="Gill Sans"/>
              </a:rPr>
              <a:t>Update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 - Change some values of a recor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1440720" indent="-731880">
              <a:spcBef>
                <a:spcPts val="2299"/>
              </a:spcBef>
              <a:buClr>
                <a:srgbClr val="ff00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ff"/>
                </a:solidFill>
                <a:latin typeface="Gill Sans"/>
              </a:rPr>
              <a:t>Delete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 - Delete a recor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027440" indent="-73188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So far we have done most of </a:t>
            </a:r>
            <a:r>
              <a:rPr b="0" lang="en-US" sz="3800" spc="-1" strike="noStrike">
                <a:solidFill>
                  <a:srgbClr val="ff00ff"/>
                </a:solidFill>
                <a:latin typeface="Gill Sans"/>
              </a:rPr>
              <a:t>CRU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Our Program is a Little Ugly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74640" y="2475000"/>
            <a:ext cx="8166240" cy="604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marL="317520" indent="0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Usually we create several screens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15494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Add new row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15494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View all rows (paging)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15494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View single row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15494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Edit single row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15494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Delete a row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8815320" y="2438280"/>
            <a:ext cx="64627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09840" y="677520"/>
            <a:ext cx="1323792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Five Separate Files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09480" y="2590560"/>
            <a:ext cx="1095372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marL="1104840" indent="-787320">
              <a:spcBef>
                <a:spcPts val="2299"/>
              </a:spcBef>
              <a:buClr>
                <a:srgbClr val="ffff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Gill Sans"/>
              </a:rPr>
              <a:t>index.php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 - Main list and links to other files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104840" indent="-787320">
              <a:spcBef>
                <a:spcPts val="2299"/>
              </a:spcBef>
              <a:buClr>
                <a:srgbClr val="ffff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Gill Sans"/>
              </a:rPr>
              <a:t>add.php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 - Add a new entr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104840" indent="-787320">
              <a:spcBef>
                <a:spcPts val="2299"/>
              </a:spcBef>
              <a:buClr>
                <a:srgbClr val="ffff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Gill Sans"/>
              </a:rPr>
              <a:t>delete.php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 - Delete an entr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104840" indent="-787320">
              <a:spcBef>
                <a:spcPts val="2299"/>
              </a:spcBef>
              <a:buClr>
                <a:srgbClr val="ffff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Gill Sans"/>
              </a:rPr>
              <a:t>edit.php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 - Edit existing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104840" indent="-787320">
              <a:spcBef>
                <a:spcPts val="2299"/>
              </a:spcBef>
              <a:buClr>
                <a:srgbClr val="ff7f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f00"/>
                </a:solidFill>
                <a:latin typeface="Gill Sans"/>
              </a:rPr>
              <a:t>view.php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 (if index.php needs a detail view)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10869480" y="2514600"/>
            <a:ext cx="5388120" cy="50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-271440" y="1441440"/>
            <a:ext cx="8807400" cy="6616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7721640" y="1441440"/>
            <a:ext cx="8807400" cy="661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677880" y="507960"/>
            <a:ext cx="15241680" cy="78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b2c5"/>
                </a:solidFill>
                <a:latin typeface="Courier New"/>
                <a:ea typeface="Courier New"/>
              </a:rPr>
              <a:t>&lt;?ph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495d"/>
                </a:solidFill>
                <a:latin typeface="Courier New"/>
                <a:ea typeface="Courier New"/>
              </a:rPr>
              <a:t>require_once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  <a:ea typeface="Courier New"/>
              </a:rPr>
              <a:t>"pdo.php"</a:t>
            </a:r>
            <a:r>
              <a:rPr b="0" lang="en-US" sz="28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495d"/>
                </a:solidFill>
                <a:latin typeface="Courier New"/>
                <a:ea typeface="Courier New"/>
              </a:rPr>
              <a:t>session_start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()</a:t>
            </a:r>
            <a:r>
              <a:rPr b="0" lang="en-US" sz="28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b2c5"/>
                </a:solidFill>
                <a:latin typeface="Courier New"/>
                <a:ea typeface="Courier New"/>
              </a:rPr>
              <a:t>?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  <a:ea typeface="Courier New"/>
              </a:rPr>
              <a:t>html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&lt;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  <a:ea typeface="Courier New"/>
              </a:rPr>
              <a:t>head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&lt;/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  <a:ea typeface="Courier New"/>
              </a:rPr>
              <a:t>head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  <a:ea typeface="Courier New"/>
              </a:rPr>
              <a:t>body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b2c5"/>
                </a:solidFill>
                <a:latin typeface="Courier New"/>
                <a:ea typeface="Courier New"/>
              </a:rPr>
              <a:t>&lt;?ph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495d"/>
                </a:solidFill>
                <a:latin typeface="Courier New"/>
                <a:ea typeface="Courier New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  <a:ea typeface="Courier New"/>
              </a:rPr>
              <a:t>isset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$_SESSION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  <a:ea typeface="Courier New"/>
              </a:rPr>
              <a:t>'error'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])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9f47a0"/>
                </a:solidFill>
                <a:latin typeface="Courier New"/>
                <a:ea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  <a:ea typeface="Courier New"/>
              </a:rPr>
              <a:t>echo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  <a:ea typeface="Courier New"/>
              </a:rPr>
              <a:t>'&lt;p style="color:red"&gt;'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$_SESSION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  <a:ea typeface="Courier New"/>
              </a:rPr>
              <a:t>'error'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].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  <a:ea typeface="Courier New"/>
              </a:rPr>
              <a:t>"&lt;/p&gt;</a:t>
            </a:r>
            <a:r>
              <a:rPr b="0" lang="en-US" sz="2800" spc="-1" strike="noStrike">
                <a:solidFill>
                  <a:srgbClr val="0e6e6d"/>
                </a:solidFill>
                <a:latin typeface="Courier New"/>
                <a:ea typeface="Courier New"/>
              </a:rPr>
              <a:t>\n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  <a:ea typeface="Courier New"/>
              </a:rPr>
              <a:t>"</a:t>
            </a:r>
            <a:r>
              <a:rPr b="0" lang="en-US" sz="28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  <a:ea typeface="Courier New"/>
              </a:rPr>
              <a:t>unset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$_SESSION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  <a:ea typeface="Courier New"/>
              </a:rPr>
              <a:t>'error'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])</a:t>
            </a:r>
            <a:r>
              <a:rPr b="0" lang="en-US" sz="28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47a0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495d"/>
                </a:solidFill>
                <a:latin typeface="Courier New"/>
                <a:ea typeface="Courier New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  <a:ea typeface="Courier New"/>
              </a:rPr>
              <a:t>isset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$_SESSION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  <a:ea typeface="Courier New"/>
              </a:rPr>
              <a:t>'success'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])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9f47a0"/>
                </a:solidFill>
                <a:latin typeface="Courier New"/>
                <a:ea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  <a:ea typeface="Courier New"/>
              </a:rPr>
              <a:t>echo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  <a:ea typeface="Courier New"/>
              </a:rPr>
              <a:t>'&lt;p style="color:green"&gt;'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$_SESSION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  <a:ea typeface="Courier New"/>
              </a:rPr>
              <a:t>'success'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].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  <a:ea typeface="Courier New"/>
              </a:rPr>
              <a:t>"&lt;/p&gt;</a:t>
            </a:r>
            <a:r>
              <a:rPr b="0" lang="en-US" sz="2800" spc="-1" strike="noStrike">
                <a:solidFill>
                  <a:srgbClr val="0e6e6d"/>
                </a:solidFill>
                <a:latin typeface="Courier New"/>
                <a:ea typeface="Courier New"/>
              </a:rPr>
              <a:t>\n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  <a:ea typeface="Courier New"/>
              </a:rPr>
              <a:t>"</a:t>
            </a:r>
            <a:r>
              <a:rPr b="0" lang="en-US" sz="28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  <a:ea typeface="Courier New"/>
              </a:rPr>
              <a:t>unset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$_SESSION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  <a:ea typeface="Courier New"/>
              </a:rPr>
              <a:t>'success'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])</a:t>
            </a:r>
            <a:r>
              <a:rPr b="0" lang="en-US" sz="28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47a0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495d"/>
                </a:solidFill>
                <a:latin typeface="Courier New"/>
                <a:ea typeface="Courier New"/>
              </a:rPr>
              <a:t>echo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  <a:ea typeface="Courier New"/>
              </a:rPr>
              <a:t>'&lt;table border="1"&gt;'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.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  <a:ea typeface="Courier New"/>
              </a:rPr>
              <a:t>"</a:t>
            </a:r>
            <a:r>
              <a:rPr b="0" lang="en-US" sz="2800" spc="-1" strike="noStrike">
                <a:solidFill>
                  <a:srgbClr val="0e6e6d"/>
                </a:solidFill>
                <a:latin typeface="Courier New"/>
                <a:ea typeface="Courier New"/>
              </a:rPr>
              <a:t>\n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  <a:ea typeface="Courier New"/>
              </a:rPr>
              <a:t>"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en-US" sz="28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2946320" y="917280"/>
            <a:ext cx="26906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index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890640" y="1295280"/>
            <a:ext cx="14828760" cy="71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b2c5"/>
                </a:solidFill>
                <a:latin typeface="Courier New"/>
                <a:ea typeface="Courier New"/>
              </a:rPr>
              <a:t>&lt;?php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echo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'&lt;table border="1"&gt;'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.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"</a:t>
            </a:r>
            <a:r>
              <a:rPr b="0" lang="en-US" sz="2500" spc="-1" strike="noStrike">
                <a:solidFill>
                  <a:srgbClr val="0e6e6d"/>
                </a:solidFill>
                <a:latin typeface="Courier New"/>
                <a:ea typeface="Courier New"/>
              </a:rPr>
              <a:t>\n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$stmt 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 $pdo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-&gt;</a:t>
            </a:r>
            <a:r>
              <a:rPr b="0" lang="en-US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query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"SELECT name, email, password, user_id FROM users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while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 $row 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 $stmt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-&gt;</a:t>
            </a:r>
            <a:r>
              <a:rPr b="0" lang="en-US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fetch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500" spc="-1" strike="noStrike">
                <a:solidFill>
                  <a:srgbClr val="ab6464"/>
                </a:solidFill>
                <a:latin typeface="Courier New"/>
                <a:ea typeface="Courier New"/>
              </a:rPr>
              <a:t>PDO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  <a:ea typeface="Courier New"/>
              </a:rPr>
              <a:t>::</a:t>
            </a:r>
            <a:r>
              <a:rPr b="0" lang="en-US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FETCH_ASSOC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  <a:ea typeface="Courier New"/>
              </a:rPr>
              <a:t>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pl-PL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echo</a:t>
            </a:r>
            <a:r>
              <a:rPr b="0" lang="pl-PL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"&lt;tr&gt;&lt;td&gt;"</a:t>
            </a:r>
            <a:r>
              <a:rPr b="0" lang="pl-PL" sz="25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tr-TR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echo</a:t>
            </a:r>
            <a:r>
              <a:rPr b="0" lang="tr-TR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pl-PL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htmlentities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tr-TR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$row</a:t>
            </a:r>
            <a:r>
              <a:rPr b="0" lang="tr-TR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tr-TR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'name'</a:t>
            </a:r>
            <a:r>
              <a:rPr b="0" lang="tr-TR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]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tr-TR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tr-TR" sz="25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pl-PL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echo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"&lt;/td&gt;&lt;td&gt;"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pl-PL" sz="25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tr-TR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echo</a:t>
            </a:r>
            <a:r>
              <a:rPr b="0" lang="tr-TR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pl-PL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htmlentities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tr-TR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$row</a:t>
            </a:r>
            <a:r>
              <a:rPr b="0" lang="tr-TR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tr-TR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'email'</a:t>
            </a:r>
            <a:r>
              <a:rPr b="0" lang="tr-TR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]))</a:t>
            </a:r>
            <a:r>
              <a:rPr b="0" lang="tr-TR" sz="25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pl-PL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echo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"&lt;/td&gt;&lt;td&gt;"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pl-PL" sz="25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pl-PL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echo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pl-PL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htmlentities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pl-PL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$row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'password'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]))</a:t>
            </a:r>
            <a:r>
              <a:rPr b="0" lang="pl-PL" sz="25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pl-PL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echo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"&lt;/td&gt;&lt;td&gt;"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pl-PL" sz="25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pl-PL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echo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'&lt;a href="edit.php?user_id='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.</a:t>
            </a:r>
            <a:r>
              <a:rPr b="0" lang="pl-PL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$row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'user_id'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].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'"&gt;Edit&lt;/a&gt; / '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pl-PL" sz="25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pl-PL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echo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'&lt;a href="delete.php?user_id='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.</a:t>
            </a:r>
            <a:r>
              <a:rPr b="0" lang="pl-PL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 </a:t>
            </a:r>
            <a:r>
              <a:rPr b="0" lang="pl-PL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$row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'user_id'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].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'"&gt;Delete&lt;/a&gt;'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pl-PL" sz="25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pl-PL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echo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"</a:t>
            </a:r>
            <a:r>
              <a:rPr b="0" lang="pl-PL" sz="2500" spc="-1" strike="noStrike">
                <a:solidFill>
                  <a:srgbClr val="0e6e6d"/>
                </a:solidFill>
                <a:latin typeface="Courier New"/>
                <a:ea typeface="Courier New"/>
              </a:rPr>
              <a:t>\n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&lt;/form&gt;</a:t>
            </a:r>
            <a:r>
              <a:rPr b="0" lang="pl-PL" sz="2500" spc="-1" strike="noStrike">
                <a:solidFill>
                  <a:srgbClr val="0e6e6d"/>
                </a:solidFill>
                <a:latin typeface="Courier New"/>
                <a:ea typeface="Courier New"/>
              </a:rPr>
              <a:t>\n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"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pl-PL" sz="25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pl-PL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echo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"&lt;/td&gt;&lt;/tr&gt;</a:t>
            </a:r>
            <a:r>
              <a:rPr b="0" lang="pl-PL" sz="2500" spc="-1" strike="noStrike">
                <a:solidFill>
                  <a:srgbClr val="0e6e6d"/>
                </a:solidFill>
                <a:latin typeface="Courier New"/>
                <a:ea typeface="Courier New"/>
              </a:rPr>
              <a:t>\n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"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pl-PL" sz="25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9f47a0"/>
                </a:solidFill>
                <a:latin typeface="Courier New"/>
                <a:ea typeface="Courier New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b2c5"/>
                </a:solidFill>
                <a:latin typeface="Courier New"/>
                <a:ea typeface="Courier New"/>
              </a:rPr>
              <a:t>?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/</a:t>
            </a:r>
            <a:r>
              <a:rPr b="0" lang="en-US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table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</a:t>
            </a:r>
            <a:r>
              <a:rPr b="0" lang="en-US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a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  <a:ea typeface="Courier New"/>
              </a:rPr>
              <a:t> href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  <a:ea typeface="Courier New"/>
              </a:rPr>
              <a:t>"add.php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  <a:ea typeface="Courier New"/>
              </a:rPr>
              <a:t>Add New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/</a:t>
            </a:r>
            <a:r>
              <a:rPr b="0" lang="en-US" sz="2500" spc="-1" strike="noStrike">
                <a:solidFill>
                  <a:srgbClr val="dd495d"/>
                </a:solidFill>
                <a:latin typeface="Courier New"/>
                <a:ea typeface="Courier New"/>
              </a:rPr>
              <a:t>a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7c7c7"/>
                </a:solidFill>
                <a:latin typeface="Courier New"/>
                <a:ea typeface="Courier New"/>
              </a:rPr>
              <a:t>?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2946320" y="917280"/>
            <a:ext cx="26906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index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2033640" y="5105520"/>
            <a:ext cx="1383192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tr&gt;&lt;td&gt;Chuck&lt;/td&gt;&lt;td&gt;csev@umich.edu&lt;/td&gt;&lt;td&gt;123&lt;/td&gt;&lt;td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a href="</a:t>
            </a:r>
            <a:r>
              <a:rPr b="0" lang="en-US" sz="28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edit.php?user_id=1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"&gt;Edit&lt;/a&gt; /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a href="</a:t>
            </a:r>
            <a:r>
              <a:rPr b="0" lang="en-US" sz="28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delete.php?user_id=1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"&gt;Delete&lt;/a&gt;&lt;/td&gt;&lt;/tr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tr&gt;&lt;td&gt;Glenn&lt;/td&gt;&lt;td&gt;gg@umich.edu&lt;/td&gt;&lt;td&gt;456&lt;/td&gt;&lt;td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a href="</a:t>
            </a:r>
            <a:r>
              <a:rPr b="0" lang="en-US" sz="28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edit.php?user_id=2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"&gt;Edit&lt;/a&gt; /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a href="</a:t>
            </a:r>
            <a:r>
              <a:rPr b="0" lang="en-US" sz="28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delete.php?user_id=2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"&gt;Delete&lt;/a&gt;&lt;/td&gt;&lt;/tr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rcRect l="0" t="0" r="0" b="46826"/>
          <a:stretch/>
        </p:blipFill>
        <p:spPr>
          <a:xfrm>
            <a:off x="2567160" y="533520"/>
            <a:ext cx="10566360" cy="42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3408200" y="993600"/>
            <a:ext cx="22363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add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8815320" y="1447920"/>
            <a:ext cx="7083360" cy="5322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"/>
          <p:cNvSpPr/>
          <p:nvPr/>
        </p:nvSpPr>
        <p:spPr>
          <a:xfrm>
            <a:off x="415800" y="685800"/>
            <a:ext cx="9129600" cy="84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2b2c5"/>
                </a:solidFill>
                <a:latin typeface="Courier New"/>
                <a:ea typeface="Courier New"/>
              </a:rPr>
              <a:t>&lt;?php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require_once</a:t>
            </a:r>
            <a:r>
              <a:rPr b="0" lang="en-US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"pdo.php"</a:t>
            </a:r>
            <a:r>
              <a:rPr b="0" lang="en-US" sz="21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session_start</a:t>
            </a:r>
            <a:r>
              <a:rPr b="0" lang="en-US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()</a:t>
            </a:r>
            <a:r>
              <a:rPr b="0" lang="en-US" sz="21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if</a:t>
            </a:r>
            <a:r>
              <a:rPr b="0" lang="en-US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isset</a:t>
            </a:r>
            <a:r>
              <a:rPr b="0" lang="en-US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$_POST</a:t>
            </a:r>
            <a:r>
              <a:rPr b="0" lang="en-US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en-US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'name'</a:t>
            </a:r>
            <a:r>
              <a:rPr b="0" lang="en-US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])</a:t>
            </a:r>
            <a:r>
              <a:rPr b="0" lang="en-US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&amp;&amp;</a:t>
            </a:r>
            <a:r>
              <a:rPr b="0" lang="en-US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isset</a:t>
            </a:r>
            <a:r>
              <a:rPr b="0" lang="en-US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en-US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$_POST</a:t>
            </a:r>
            <a:r>
              <a:rPr b="0" lang="en-US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en-US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'email'</a:t>
            </a:r>
            <a:r>
              <a:rPr b="0" lang="en-US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])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  </a:t>
            </a:r>
            <a:r>
              <a:rPr b="0" lang="de-DE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&amp;&amp;</a:t>
            </a:r>
            <a:r>
              <a:rPr b="0" lang="de-DE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DE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isset</a:t>
            </a:r>
            <a:r>
              <a:rPr b="0" lang="de-DE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de-DE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$_POST</a:t>
            </a:r>
            <a:r>
              <a:rPr b="0" lang="de-DE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de-DE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'password'</a:t>
            </a:r>
            <a:r>
              <a:rPr b="0" lang="de-DE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]))</a:t>
            </a:r>
            <a:r>
              <a:rPr b="0" lang="de-DE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de-DE" sz="2100" spc="-1" strike="noStrike">
                <a:solidFill>
                  <a:srgbClr val="9f47a0"/>
                </a:solidFill>
                <a:latin typeface="Courier New"/>
                <a:ea typeface="Courier New"/>
              </a:rPr>
              <a:t>{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de-DE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$sql </a:t>
            </a:r>
            <a:r>
              <a:rPr b="0" lang="de-DE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de-DE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de-DE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"INSERT INTO users (name, email, password)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               </a:t>
            </a:r>
            <a:r>
              <a:rPr b="0" lang="pl-PL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VALUES (:name, :email, :password)"</a:t>
            </a:r>
            <a:r>
              <a:rPr b="0" lang="pl-PL" sz="21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pl-PL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$stmt </a:t>
            </a:r>
            <a:r>
              <a:rPr b="0" lang="pl-PL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pl-PL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 $pdo</a:t>
            </a:r>
            <a:r>
              <a:rPr b="0" lang="pl-PL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-&gt;</a:t>
            </a:r>
            <a:r>
              <a:rPr b="1" lang="pl-PL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prepare</a:t>
            </a:r>
            <a:r>
              <a:rPr b="0" lang="pl-PL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pl-PL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$sql</a:t>
            </a:r>
            <a:r>
              <a:rPr b="0" lang="pl-PL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pl-PL" sz="21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</a:t>
            </a:r>
            <a:r>
              <a:rPr b="0" lang="pl-PL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$stmt</a:t>
            </a:r>
            <a:r>
              <a:rPr b="0" lang="pl-PL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-&gt;</a:t>
            </a:r>
            <a:r>
              <a:rPr b="1" lang="pl-PL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execute</a:t>
            </a:r>
            <a:r>
              <a:rPr b="0" lang="pl-PL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1" lang="pl-PL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array</a:t>
            </a:r>
            <a:r>
              <a:rPr b="0" lang="pl-PL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    </a:t>
            </a:r>
            <a:r>
              <a:rPr b="0" lang="tr-TR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':name'</a:t>
            </a:r>
            <a:r>
              <a:rPr b="0" lang="tr-TR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tr-TR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=&gt;</a:t>
            </a:r>
            <a:r>
              <a:rPr b="0" lang="tr-TR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 $_POST</a:t>
            </a:r>
            <a:r>
              <a:rPr b="0" lang="tr-TR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tr-TR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'name'</a:t>
            </a:r>
            <a:r>
              <a:rPr b="0" lang="tr-TR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],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    </a:t>
            </a:r>
            <a:r>
              <a:rPr b="0" lang="tr-TR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':email'</a:t>
            </a:r>
            <a:r>
              <a:rPr b="0" lang="tr-TR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tr-TR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=&gt;</a:t>
            </a:r>
            <a:r>
              <a:rPr b="0" lang="tr-TR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 $_POST</a:t>
            </a:r>
            <a:r>
              <a:rPr b="0" lang="tr-TR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tr-TR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'email'</a:t>
            </a:r>
            <a:r>
              <a:rPr b="0" lang="tr-TR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],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     </a:t>
            </a:r>
            <a:r>
              <a:rPr b="0" lang="de-DE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':password'</a:t>
            </a:r>
            <a:r>
              <a:rPr b="0" lang="de-DE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de-DE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=&gt;</a:t>
            </a:r>
            <a:r>
              <a:rPr b="0" lang="de-DE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 $_POST</a:t>
            </a:r>
            <a:r>
              <a:rPr b="0" lang="de-DE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de-DE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'password'</a:t>
            </a:r>
            <a:r>
              <a:rPr b="0" lang="de-DE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]))</a:t>
            </a:r>
            <a:r>
              <a:rPr b="0" lang="de-DE" sz="21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</a:t>
            </a:r>
            <a:r>
              <a:rPr b="0" lang="de-DE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$_SESSION</a:t>
            </a:r>
            <a:r>
              <a:rPr b="0" lang="de-DE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[</a:t>
            </a:r>
            <a:r>
              <a:rPr b="0" lang="de-DE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'success'</a:t>
            </a:r>
            <a:r>
              <a:rPr b="0" lang="de-DE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]</a:t>
            </a:r>
            <a:r>
              <a:rPr b="0" lang="de-DE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de-DE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de-DE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de-DE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'Record Added'</a:t>
            </a:r>
            <a:r>
              <a:rPr b="0" lang="de-DE" sz="21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</a:t>
            </a:r>
            <a:r>
              <a:rPr b="1" lang="de-DE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header</a:t>
            </a:r>
            <a:r>
              <a:rPr b="0" lang="de-DE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(</a:t>
            </a:r>
            <a:r>
              <a:rPr b="0" lang="de-DE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de-DE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'Location: index.php'</a:t>
            </a:r>
            <a:r>
              <a:rPr b="0" lang="de-DE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de-DE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)</a:t>
            </a:r>
            <a:r>
              <a:rPr b="0" lang="de-DE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de-DE" sz="21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Courier New"/>
                <a:ea typeface="Courier New"/>
              </a:rPr>
              <a:t>   </a:t>
            </a:r>
            <a:r>
              <a:rPr b="1" lang="de-DE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return</a:t>
            </a:r>
            <a:r>
              <a:rPr b="0" lang="de-DE" sz="2100" spc="-1" strike="noStrike">
                <a:solidFill>
                  <a:srgbClr val="9f47a0"/>
                </a:solidFill>
                <a:latin typeface="Courier New"/>
                <a:ea typeface="Courier New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9f47a0"/>
                </a:solidFill>
                <a:latin typeface="Courier New"/>
                <a:ea typeface="Courier New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2b2c5"/>
                </a:solidFill>
                <a:latin typeface="Courier New"/>
                <a:ea typeface="Courier New"/>
              </a:rPr>
              <a:t>?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</a:t>
            </a: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p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r>
              <a:rPr b="0" lang="en-US" sz="2100" spc="-1" strike="noStrike">
                <a:solidFill>
                  <a:srgbClr val="c7c7c7"/>
                </a:solidFill>
                <a:latin typeface="Courier New"/>
                <a:ea typeface="Courier New"/>
              </a:rPr>
              <a:t>Add A New User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/</a:t>
            </a: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p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</a:t>
            </a: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form</a:t>
            </a:r>
            <a:r>
              <a:rPr b="0" lang="en-US" sz="2100" spc="-1" strike="noStrike">
                <a:solidFill>
                  <a:srgbClr val="c7c7c7"/>
                </a:solidFill>
                <a:latin typeface="Courier New"/>
                <a:ea typeface="Courier New"/>
              </a:rPr>
              <a:t> method</a:t>
            </a:r>
            <a:r>
              <a:rPr b="0" lang="en-US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"post"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</a:t>
            </a: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p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r>
              <a:rPr b="0" lang="en-US" sz="2100" spc="-1" strike="noStrike">
                <a:solidFill>
                  <a:srgbClr val="c7c7c7"/>
                </a:solidFill>
                <a:latin typeface="Courier New"/>
                <a:ea typeface="Courier New"/>
              </a:rPr>
              <a:t>Name: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</a:t>
            </a: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input</a:t>
            </a:r>
            <a:r>
              <a:rPr b="0" lang="en-US" sz="2100" spc="-1" strike="noStrike">
                <a:solidFill>
                  <a:srgbClr val="c7c7c7"/>
                </a:solidFill>
                <a:latin typeface="Courier New"/>
                <a:ea typeface="Courier New"/>
              </a:rPr>
              <a:t> type</a:t>
            </a:r>
            <a:r>
              <a:rPr b="0" lang="en-US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"text"</a:t>
            </a:r>
            <a:r>
              <a:rPr b="0" lang="en-US" sz="2100" spc="-1" strike="noStrike">
                <a:solidFill>
                  <a:srgbClr val="c7c7c7"/>
                </a:solidFill>
                <a:latin typeface="Courier New"/>
                <a:ea typeface="Courier New"/>
              </a:rPr>
              <a:t> name</a:t>
            </a:r>
            <a:r>
              <a:rPr b="0" lang="en-US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"name"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&lt;/</a:t>
            </a: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p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</a:t>
            </a: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p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r>
              <a:rPr b="0" lang="en-US" sz="2100" spc="-1" strike="noStrike">
                <a:solidFill>
                  <a:srgbClr val="c7c7c7"/>
                </a:solidFill>
                <a:latin typeface="Courier New"/>
                <a:ea typeface="Courier New"/>
              </a:rPr>
              <a:t>Email: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</a:t>
            </a: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input</a:t>
            </a:r>
            <a:r>
              <a:rPr b="0" lang="en-US" sz="2100" spc="-1" strike="noStrike">
                <a:solidFill>
                  <a:srgbClr val="c7c7c7"/>
                </a:solidFill>
                <a:latin typeface="Courier New"/>
                <a:ea typeface="Courier New"/>
              </a:rPr>
              <a:t> type</a:t>
            </a:r>
            <a:r>
              <a:rPr b="0" lang="en-US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"text"</a:t>
            </a:r>
            <a:r>
              <a:rPr b="0" lang="en-US" sz="2100" spc="-1" strike="noStrike">
                <a:solidFill>
                  <a:srgbClr val="c7c7c7"/>
                </a:solidFill>
                <a:latin typeface="Courier New"/>
                <a:ea typeface="Courier New"/>
              </a:rPr>
              <a:t> name</a:t>
            </a:r>
            <a:r>
              <a:rPr b="0" lang="en-US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"email"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&lt;/</a:t>
            </a: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p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</a:t>
            </a: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p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r>
              <a:rPr b="0" lang="en-US" sz="2100" spc="-1" strike="noStrike">
                <a:solidFill>
                  <a:srgbClr val="c7c7c7"/>
                </a:solidFill>
                <a:latin typeface="Courier New"/>
                <a:ea typeface="Courier New"/>
              </a:rPr>
              <a:t>Password: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</a:t>
            </a: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input</a:t>
            </a:r>
            <a:r>
              <a:rPr b="0" lang="en-US" sz="2100" spc="-1" strike="noStrike">
                <a:solidFill>
                  <a:srgbClr val="c7c7c7"/>
                </a:solidFill>
                <a:latin typeface="Courier New"/>
                <a:ea typeface="Courier New"/>
              </a:rPr>
              <a:t> type</a:t>
            </a:r>
            <a:r>
              <a:rPr b="0" lang="en-US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"password"</a:t>
            </a:r>
            <a:r>
              <a:rPr b="0" lang="en-US" sz="2100" spc="-1" strike="noStrike">
                <a:solidFill>
                  <a:srgbClr val="c7c7c7"/>
                </a:solidFill>
                <a:latin typeface="Courier New"/>
                <a:ea typeface="Courier New"/>
              </a:rPr>
              <a:t> name</a:t>
            </a:r>
            <a:r>
              <a:rPr b="0" lang="en-US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"password"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&lt;/</a:t>
            </a: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p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</a:t>
            </a: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p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&lt;</a:t>
            </a: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input</a:t>
            </a:r>
            <a:r>
              <a:rPr b="0" lang="en-US" sz="2100" spc="-1" strike="noStrike">
                <a:solidFill>
                  <a:srgbClr val="c7c7c7"/>
                </a:solidFill>
                <a:latin typeface="Courier New"/>
                <a:ea typeface="Courier New"/>
              </a:rPr>
              <a:t> type</a:t>
            </a:r>
            <a:r>
              <a:rPr b="0" lang="en-US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"submit"</a:t>
            </a:r>
            <a:r>
              <a:rPr b="0" lang="en-US" sz="2100" spc="-1" strike="noStrike">
                <a:solidFill>
                  <a:srgbClr val="c7c7c7"/>
                </a:solidFill>
                <a:latin typeface="Courier New"/>
                <a:ea typeface="Courier New"/>
              </a:rPr>
              <a:t> value</a:t>
            </a:r>
            <a:r>
              <a:rPr b="0" lang="en-US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"Add New"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/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</a:t>
            </a: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a</a:t>
            </a:r>
            <a:r>
              <a:rPr b="0" lang="en-US" sz="2100" spc="-1" strike="noStrike">
                <a:solidFill>
                  <a:srgbClr val="c7c7c7"/>
                </a:solidFill>
                <a:latin typeface="Courier New"/>
                <a:ea typeface="Courier New"/>
              </a:rPr>
              <a:t> href</a:t>
            </a:r>
            <a:r>
              <a:rPr b="0" lang="en-US" sz="2100" spc="-1" strike="noStrike">
                <a:solidFill>
                  <a:srgbClr val="c8c473"/>
                </a:solidFill>
                <a:latin typeface="Courier New"/>
                <a:ea typeface="Courier New"/>
              </a:rPr>
              <a:t>=</a:t>
            </a:r>
            <a:r>
              <a:rPr b="0" lang="en-US" sz="2100" spc="-1" strike="noStrike">
                <a:solidFill>
                  <a:srgbClr val="18b9b7"/>
                </a:solidFill>
                <a:latin typeface="Courier New"/>
                <a:ea typeface="Courier New"/>
              </a:rPr>
              <a:t>"index.php"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r>
              <a:rPr b="0" lang="en-US" sz="2100" spc="-1" strike="noStrike">
                <a:solidFill>
                  <a:srgbClr val="c7c7c7"/>
                </a:solidFill>
                <a:latin typeface="Courier New"/>
                <a:ea typeface="Courier New"/>
              </a:rPr>
              <a:t>Cancel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/</a:t>
            </a: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a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&lt;/</a:t>
            </a: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p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lt;/</a:t>
            </a:r>
            <a:r>
              <a:rPr b="1" lang="en-US" sz="2100" spc="-1" strike="noStrike">
                <a:solidFill>
                  <a:srgbClr val="dd495d"/>
                </a:solidFill>
                <a:latin typeface="Courier New"/>
                <a:ea typeface="Courier New"/>
              </a:rPr>
              <a:t>form</a:t>
            </a:r>
            <a:r>
              <a:rPr b="0" lang="en-US" sz="2100" spc="-1" strike="noStrike">
                <a:solidFill>
                  <a:srgbClr val="fc740c"/>
                </a:solidFill>
                <a:latin typeface="Courier New"/>
                <a:ea typeface="Courier New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Office of Digital Education And Innovation</cp:lastModifiedBy>
  <dcterms:modified xsi:type="dcterms:W3CDTF">2017-06-01T17:01:19Z</dcterms:modified>
  <cp:revision>147</cp:revision>
  <dc:subject/>
  <dc:title>Accessing MySQL Using PDO</dc:title>
</cp:coreProperties>
</file>